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6558-53F7-4236-B626-E6621C9B1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3608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22C4-F9A4-4A02-B75E-B5F8AB725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27FF7-A4B9-4861-8DB7-08043A236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55C0-9F37-47B6-91D1-E6F5DC41CE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A2E25-35FB-434E-BBB9-EA09BF366D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00D4-34FC-4494-B96F-54DC1C56B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0A842-64FD-4DE1-93DF-2E4EA1AFD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AD07-22CD-4640-8D77-C227AC5119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83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242AA-944C-4688-AAA7-619F4749B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102D3-D508-45DB-A421-0955C872B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2F7C9-AD84-44C1-87A7-855270E29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F542-D289-4360-B003-AD0FE94B5F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6607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FBD0-BFBC-4B5D-8E74-D068A7EBF3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"/>
          <p:cNvPicPr/>
          <p:nvPr/>
        </p:nvPicPr>
        <p:blipFill>
          <a:blip r:embed="rId3"/>
          <a:stretch/>
        </p:blipFill>
        <p:spPr>
          <a:xfrm>
            <a:off x="-3240" y="-1260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1328760" y="2505240"/>
            <a:ext cx="6108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PREDSTAVITEV IZVAJANJA NAČ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VREDNOTNEJA OPERATIVNEGA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RAZVOJA ČLOVEŠKIH VIR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ZA OBDOBJE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Br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4A54-4029-4879-92C7-11EC71DAB6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ravokotnik 4"/>
          <p:cNvSpPr/>
          <p:nvPr/>
        </p:nvSpPr>
        <p:spPr>
          <a:xfrm>
            <a:off x="379440" y="2217600"/>
            <a:ext cx="8137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NEKAJ PRIPOROČI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- umestitev klavzule glede pridobivanja podatkov o zaposlitvenem statusu za potrebe vrednotenja za obdobje 18 mesecev po prenehanju pogodbenih obveznosti v vse pogodbe s končnimi upravičenci pred njihovo sklenitvij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- preučiti je treba, na kakšen način si lahko Organ upravljanja ali posredniška telesa zagotovijo enostaven dostop in križanje različnih podatkovnih baze (ISARR, ZPIS, podatkovno bazo ZRSZ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01D3-4872-479E-91B6-83943D4643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ravokotnik 4"/>
          <p:cNvSpPr/>
          <p:nvPr/>
        </p:nvSpPr>
        <p:spPr>
          <a:xfrm>
            <a:off x="755640" y="1346040"/>
            <a:ext cx="748836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nn-NO" sz="1600" spc="-1" strike="noStrike">
                <a:solidFill>
                  <a:srgbClr val="000000"/>
                </a:solidFill>
                <a:latin typeface="Arial"/>
                <a:ea typeface="Arial"/>
              </a:rPr>
              <a:t>regled uresničevanja strateških ciljev visokega šolstva v RS, ki so podlaga za načrtovanje in izvajanje ukrepov v OP 2014 – 2020 s področja visokega šolstva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začetek vrednotenja predviden v juliju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konec vseh aktivnosti do novembra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ravokotnik 5"/>
          <p:cNvSpPr/>
          <p:nvPr/>
        </p:nvSpPr>
        <p:spPr>
          <a:xfrm>
            <a:off x="2567160" y="1136520"/>
            <a:ext cx="269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POSTOPKI V TEK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ravokotnik 6"/>
          <p:cNvSpPr/>
          <p:nvPr/>
        </p:nvSpPr>
        <p:spPr>
          <a:xfrm>
            <a:off x="755640" y="3475080"/>
            <a:ext cx="7777080" cy="25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NAMEN VREDNOTENJ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Cilj strateškega vrednotenja dveh evalvacij v okviru Pregled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esničevanja strateških ciljev visokega šolstva v RS, ki so podlaga za načrtovanje in izvajanje ukrepov v OP 2014 – 2020 s področja visokega šolstva je podati kvalitativno oce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esničevanja ciljev nacionalnega programa visokega šolstva na treh prednostnih področij ReNPVŠ11-2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cij na področju visokega šolstva v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P RČ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 programskem obdobju 2007 –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79C1-E13F-440E-A0B2-9CE67B856D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ravokotnik 4"/>
          <p:cNvSpPr/>
          <p:nvPr/>
        </p:nvSpPr>
        <p:spPr>
          <a:xfrm>
            <a:off x="179280" y="1281240"/>
            <a:ext cx="849636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REDMET VREDNOT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met evalvacije uresničevanja nacionalnega programa visokega šolstva 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ov ReNPVŠ11-20 na področju kakovosti visokega šolstva, zlasti ukrepov številka 19, 20, 21, 22, 23, 24, 27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ov ReNPVŠ11-20 na področju internacionalizacije visokega šolstva, zlasti ukrepov številka 28, 29, 30, 31, 32, 33, 34, 3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a ReNPVŠ11-20 številka 5a (sodelovanje visokošolskih institucij z gospodarstvom in negospodarstvo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drugih ukrepov ReNPVŠ11-20, ki so relevantni za načrtovanje oziroma izvajanje ukrepov v OP 2014 – 2020 s področja visokega šolstv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ena doseganja ciljev in meril ReNPVŠ11-20 na naslednjih področjih: kakovost, internacionalizacija ter povezanost z gospodarstvom, negospodarstvom in raziskovalnimi zavod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ena ključnih deležnikov o doseganju ciljev in meril ReNPVŠ11-20, prvenstveno na področjih: kakovost, internacionalizacija ter povezanost z gospodarstvom, negospodarstvom in raziskovalnimi zavod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met evalvacije operacij na področju visokega šolstva v Operativnem programu razvoja človeških virov v programskem obdobju 2007 – 2013 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iz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zvedbe in ocena uspešnosti operacij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log izboljšav za načrtovanje in izvedbo ukrepov v programskem obdobju 2014 – 202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A353-FBC4-4C5B-BD26-11D3AD2637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ravokotnik 4"/>
          <p:cNvSpPr/>
          <p:nvPr/>
        </p:nvSpPr>
        <p:spPr>
          <a:xfrm>
            <a:off x="539640" y="1569960"/>
            <a:ext cx="734544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REDVIDENE AKTIVNOSTI V 201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Evalvacija politike aktivacije brezposelnih (predlog OECD "Connecting People with Jobs")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sodelovanju z MDDSZ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Strategija razvoja  sistema poklicnega izobraževanja v RS, ki so vključeni v OP 2014-2020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sodelovanju z MIZŠ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Youth Employment Initiative (YEI) (do 31. 12. 20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Učinkovita in uspešna javna uprava in Zdravstvo v informacijski dobi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ponovitev postopk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Priprava Načrta vrednotenj 2014-2020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tek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8B7B-EA52-4EA6-912F-7574A648EF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286000" y="1496880"/>
            <a:ext cx="4572000" cy="38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CDF8-B3A4-454D-95EE-E88DEB32A2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0320" y="2485800"/>
            <a:ext cx="7521840" cy="3422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egled izvajanja nač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egled izvedenih vrednotenj oz. vrednotenj v te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209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6b6bcf"/>
                </a:solidFill>
                <a:latin typeface="Arial"/>
              </a:rPr>
              <a:t>VSEB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B12B-FD73-4351-9A9A-BAEF8B433B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92088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222268"/>
                </a:solidFill>
                <a:latin typeface="Arial"/>
              </a:rPr>
              <a:t>SREDSTVA TP (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98600" y="1892160"/>
          <a:ext cx="6095880" cy="1981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6b6bcf"/>
                          </a:solidFill>
                          <a:latin typeface="Angsana New"/>
                          <a:ea typeface="Angsana New"/>
                        </a:rPr>
                        <a:t>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P SREDST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(SLO in EU del)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32,9 m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ZA VREDNOTENJA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500.000 oz. cca. 1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49" name="Picture 18" descr=""/>
          <p:cNvPicPr/>
          <p:nvPr/>
        </p:nvPicPr>
        <p:blipFill>
          <a:blip r:embed="rId1"/>
          <a:stretch/>
        </p:blipFill>
        <p:spPr>
          <a:xfrm>
            <a:off x="324000" y="37288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"/>
          <p:cNvPicPr/>
          <p:nvPr/>
        </p:nvPicPr>
        <p:blipFill>
          <a:blip r:embed="rId2"/>
          <a:stretch/>
        </p:blipFill>
        <p:spPr>
          <a:xfrm>
            <a:off x="1387440" y="4483080"/>
            <a:ext cx="6102360" cy="22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0848-77CC-4617-83F1-5A14CBA34E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712520"/>
            <a:ext cx="8497800" cy="5148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javnega razpisa za sofinanciranje projektov horizontalnih NVO mrež in regionalnih stičišč za leto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razpisa za izbor razvojnih projektov za dvig zaposljivosti ranljivih družbenih skupin na področju kulture in podporo njihovi socialni vključenosti v letih 2008-2009 s pripravo poročil za nadaljnje izvajanje aktivnosti za doseganje ciljev prednostne usmeritve 4.3. v OP RČ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1. in 2. prednostne usmeritve Izboljšanje kakovosti in učinkovitosti sistemov izobraževanja in usposabljanja ter Izboljšanje usposobljenosti posameznika za delo in življenje v družbi temelječi na znanju 3. Razvojne prioritete OP ESS Razvoj človeških virov in vseživljenjskega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 CE"/>
              </a:rPr>
              <a:t>Vmesno vrednotenje komunikacijskega načrta cilja Konvergen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 prednostnih usmeritev s področja trga dela, ki jih v okviru OP RČV izvaja Ministrstvo za delo, družino in socialne zad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86FF-3791-445C-BEA3-FEFE905CE2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1641600"/>
            <a:ext cx="8497800" cy="5148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javnega razpisa za sofinanciranje projektov horizontalnih NVO mrež in regionalnih stičišč za leto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razpisa za izbor razvojnih projektov za dvig zaposljivosti ranljivih družbenih skupin na področju kulture in podporo njihovi socialni vključenosti v letih 2008-2009 s pripravo poročil za nadaljnje izvajanje aktivnosti za doseganje ciljev prednostne usmeritve 4.3. v OP RČ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1. in 2. prednostne usmeritve Izboljšanje kakovosti in učinkovitosti sistemov izobraževanja in usposabljanja ter Izboljšanje usposobljenosti posameznika za delo in življenje v družbi temelječi na znanju 3. Razvojne prioritete OP ESS Razvoj človeških virov in vseživljenjskega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 CE"/>
              </a:rPr>
              <a:t>Vmesno vrednotenje komunikacijskega načrta cilja Konvergen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 prednostnih usmeritev s področja trga dela, ki jih v okviru OP RČV izvaja Ministrstvo za delo, družino in socialne zad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6E1D-D47E-498C-824F-7868132C94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grada vsebine 1"/>
          <p:cNvSpPr/>
          <p:nvPr/>
        </p:nvSpPr>
        <p:spPr>
          <a:xfrm>
            <a:off x="457200" y="2144880"/>
            <a:ext cx="82296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ukrepov za spodbujanje raziskovalno razvojnih aktivnosti v gospodarstvu in institucijah znanja (ESRR&amp;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rednotenje krepitve kapacitet nevladnih organizacij s pomočjo vzpostavljanja podpornih struktur (julij 20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CRP PROJEK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nstitucionalna evalvacija Zavoda RS za zaposlo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največjih programov aktivne politike zaposlovanja, vključno z ukrepi proti gospodarski in finančni kriz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4400" y="1064880"/>
            <a:ext cx="7855200" cy="585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9F87-0E0B-44D1-9FC3-E51810106C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O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ZADNJEGA N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avokotnik 6"/>
          <p:cNvSpPr/>
          <p:nvPr/>
        </p:nvSpPr>
        <p:spPr>
          <a:xfrm>
            <a:off x="263520" y="2144880"/>
            <a:ext cx="835344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NAREJE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rednotenje krepitve kapacitet nevladnih organizacij s pomočjo vzpostavljanja podpornih struktur (julij 2014)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(predstavljeno decemb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 IZVAJANJU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Končno vrednotenje izvajanja ukrepov ESS za spodbujanje socialne vključenosti in zagotavljanja enakih možnosti v obdobju 2007-2013 (zaključeno: do 20. 6. 2015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56196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6b6bcf"/>
                </a:solidFill>
                <a:latin typeface="Arial"/>
                <a:ea typeface="Arial"/>
              </a:rPr>
              <a:t>Končno vrednotenje izvajanja ukrepov ESS za spodbujanje socialne vključenosti in zagotavljanja enakih možnosti v obdobju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928520"/>
            <a:ext cx="8229600" cy="5608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Končno vrednotenje četrte razvojne prioritete ESS 2007-2013 'Spodbujanje socialne vključenosti in zagotavljanje enakih možnost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PREDMET KONČNEGA VREDNOTENJ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nstrumenti, ki so se izvajali v okviru treh prednostnih usmeritev četrte razvojne prioritete ESS 2007-2013 'Spodbujanje socialne vključenosti in zagotavljanje enakih možnosti', in sicer: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1. Enake možnosti na trgu dela in krepitev socialne vključenosti (12 instrumentov, razpoložljive pravice porabe: 43 M€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2. Povečati dostopnost in enakost možnosti v sistemu vzgoje in izobraževanja (10 instrumentov, razpoložljive pravice porabe: 7,9 M€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3: Dvig zaposljivosti ranljivih družbenih skupin in podpora njihovi socialni vključenosti (12 instrumentov, razpoložljive pravice porabe: 15,2 M€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zvajalec: PITIJA svetovanje, d.o.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C5DD-8C3A-4259-A24C-66E61457BE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NEKAJ UGOTOVITEV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eliko ugotovljenih pomanjkljivosti glede izvajanja četrte razvojne prioritete je v novem finančnem obdobju 2014-2020  odpravljeni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novo finančno obdobje je pripravljena jasna in podrobna metodologija zbiranja podatkov za kazalnike, ki vključuje tudi definicije kazalniko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ranljive ciljne skupine so jasno definirane že v Operativnem programu, poenotene definicije pa naj bi se upoštevale tudi v razpisih posameznih posredniških te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sakega končnega upravičenca naj bi se spremljalo ob vključitvi v program in ob izstopu iz programa. Na ta način naj bi se zagotovilo, da bo oseba obravnavana le enkr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6b6bcf"/>
                </a:solidFill>
                <a:latin typeface="Arial"/>
              </a:rPr>
              <a:t>S stališča doseganja ciljnih vrednosti kazalnikov ali naslavljanja specifičnih ciljev četrte razvojne prioritete, bi lahko zaključili, da je bila 4. RP izvedena uspešn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KONČNO POROČILO: 20. 6.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Končno poročilo bo objavljeno na </a:t>
            </a:r>
            <a:r>
              <a:rPr b="0" lang="sl-SI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64E0-B73A-4B5F-9BC8-BFFDC3AE0A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</dc:creator>
  <dc:description/>
  <dc:language>en-US</dc:language>
  <cp:lastModifiedBy>Petra Jerina</cp:lastModifiedBy>
  <cp:lastPrinted>2015-06-01T09:23:34Z</cp:lastPrinted>
  <dcterms:modified xsi:type="dcterms:W3CDTF">2015-06-03T06:54:45Z</dcterms:modified>
  <cp:revision>52</cp:revision>
  <dc:subject/>
  <dc:title>Naslov</dc:title>
</cp:coreProperties>
</file>